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4F47-9113-4A69-B624-9117C608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7E2E-48AD-4DD4-944D-02FB01E7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FDC0-9954-4B4A-9104-774C4906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9D4E-61F9-46F5-B810-9292F639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CD2-3FC7-4837-ACAA-5BBA99A0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F679-4BCC-42DF-9F1B-F711A13F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2F6-F57F-47A8-9A04-8242BB4B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8F1-D0EF-42C0-BBEF-47F5141E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D78-C879-4423-9A99-EF125AB8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635-CBE5-4430-B706-01BE02F8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741-E05A-4E40-BCB8-739A216F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A49-C429-4A28-8447-68F4CE7D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E357-247F-478B-9DA1-897A7B2B5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5.pct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Movement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Modifications to Prevent Water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only on leaf bottom -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ed to direct ligh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d evaporation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s - trap moisture, help prevent water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22860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8120" y="228600"/>
            <a:ext cx="3124080" cy="2819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5880" y="3200400"/>
            <a:ext cx="2819520" cy="3048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28600" y="228600"/>
            <a:ext cx="2895480" cy="281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28600" y="320040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124080" y="32004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s that move water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mosis - allows water to enter ro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llary Action - forces that allow water to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up through xy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b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hesion, surface tensio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hes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s that move water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 - process by which plants l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vapor through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enters leaf through v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leaves xylem &amp; enters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evaporates from wet cell surface = va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vapor diffuses into airspaces of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vapor passes out into air through sto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ces that move water in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piration (continued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*more water moves in to replace lost water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continuous process that helps pull water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ough the plant &amp; cools the lea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**Over 90% of water taken in by plants is los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ough the process of transpir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Tranpi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d by guard cells &amp; stom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uard cells take in water through osmosis = increased turgor pressure (guard cells swell &amp; o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guard cells lose water through osmosis/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uard cells shrink &amp; clo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e of Transpi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are open during the day - take in carbon dioxide for photosynthesis; stomata close at night but on a hot, dry day, they may close to prevent excessive water lo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 Affecting Water Los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idity - rate of water loss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humidity levels are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 - rate of water loss incr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windy cond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vaporation rate increas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Factors Affecting Water Los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- rate of water loss incr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emperature goes 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increased rat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- rate of water loss increases as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s increase; due to incre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synth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a28b3"/>
            </a:gs>
            <a:gs pos="100000">
              <a:srgbClr val="34b2a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Modifications to Prevent Water L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leaves - reduced surface a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s water los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urled leaves, needles, or spi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ulents - thick, fleshy leave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wa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loe vera, ja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4:56:47Z</dcterms:created>
  <dc:creator>Clayton Johns</dc:creator>
  <dc:description/>
  <dc:language>en-US</dc:language>
  <cp:lastModifiedBy>Clayton Johns</cp:lastModifiedBy>
  <dcterms:modified xsi:type="dcterms:W3CDTF">2010-05-06T12:47:35Z</dcterms:modified>
  <cp:revision>4</cp:revision>
  <dc:subject/>
  <dc:title>Water Movement In Plants</dc:title>
</cp:coreProperties>
</file>